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159335"/>
        <c:axId val="11302960"/>
      </c:barChart>
      <c:catAx>
        <c:axId val="751593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302960"/>
        <c:crosses val="autoZero"/>
        <c:auto val="1"/>
        <c:lblAlgn val="ctr"/>
        <c:lblOffset val="100"/>
        <c:noMultiLvlLbl val="0"/>
      </c:catAx>
      <c:valAx>
        <c:axId val="113029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1593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CD1C-6E08-43DA-911F-7548084C2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8318-C227-4F8D-9D5F-9BD197622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7AA3-C43E-4E6D-9613-00C1E3522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2FC9-6819-46D6-98BD-E9C3FA650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6441-DFF4-46B1-801B-D4F072F76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BBBF-7313-4BC7-8543-2178E9B86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27C0-A59B-4DDF-AB13-A616AC453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FAD9-0D33-43B2-90B1-D6E721AE1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A973-E6CA-4028-9B79-EB0C9F008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AFA5-B862-4E74-BD97-490E6577B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C450-D9A5-43E1-802F-AA65145D9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B90B-B0F7-4641-AA55-B66A557B1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F3E4D0-CE74-4AC4-BBD3-2AB1D52A930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